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049-9F75-4D36-9B96-822CA2AB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0A2-CB07-40BF-9EA1-4A67B8AB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A72-C7A8-4CB2-9A52-320E4FB4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D80-0891-48A0-A423-3BC99176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04D-9AEC-484E-BD2E-C08910E3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36E-28BE-4478-820C-D7E3BE13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318-9F4F-45BF-BA4B-E99424AC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99A-F1CF-4B8E-9882-32DC9150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067-A9FC-4B7A-B167-AF71BB55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ECD-1E22-48CB-95BB-1EA6033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D54-D695-44E8-A569-850B901E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DD8-16BC-455F-A093-C0D144C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05E5-F582-4B95-8079-D1EB2C1C7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295280" y="3809880"/>
            <a:ext cx="6553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xHeavy"/>
              </a:rPr>
              <a:t>Game game gam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7280" y="3886200"/>
            <a:ext cx="6769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xHeavy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omix"/>
              </a:rPr>
              <a:t> Richard A. </a:t>
            </a:r>
            <a:r>
              <a:rPr b="0" lang="en-GB" sz="2000" spc="-1" strike="noStrike">
                <a:solidFill>
                  <a:srgbClr val="000000"/>
                </a:solidFill>
                <a:latin typeface="ComixHeavy"/>
              </a:rPr>
              <a:t>Bar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Top bra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auren warren   michaela taylor   helen mck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sales director      COO       HR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re’s als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the senior pro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Formally, You report to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greg cleg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, like michaela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82" name="Picture 8" descr="f13.png"/>
          <p:cNvPicPr/>
          <p:nvPr/>
        </p:nvPicPr>
        <p:blipFill>
          <a:blip r:embed="rId1"/>
          <a:stretch/>
        </p:blipFill>
        <p:spPr>
          <a:xfrm>
            <a:off x="971640" y="1557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07.png"/>
          <p:cNvPicPr/>
          <p:nvPr/>
        </p:nvPicPr>
        <p:blipFill>
          <a:blip r:embed="rId2"/>
          <a:stretch/>
        </p:blipFill>
        <p:spPr>
          <a:xfrm>
            <a:off x="3564000" y="1557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29.png"/>
          <p:cNvPicPr/>
          <p:nvPr/>
        </p:nvPicPr>
        <p:blipFill>
          <a:blip r:embed="rId3"/>
          <a:stretch/>
        </p:blipFill>
        <p:spPr>
          <a:xfrm>
            <a:off x="6227640" y="1557360"/>
            <a:ext cx="2089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The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n order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nsur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uccess and raise the company’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ofil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game game game is using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icenc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their first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licence is good fo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two yea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’ve chosen the tv series </a:t>
            </a:r>
            <a:r>
              <a:rPr b="0" i="1" lang="en-GB" sz="3200" spc="-1" strike="noStrike">
                <a:solidFill>
                  <a:srgbClr val="000000"/>
                </a:solidFill>
                <a:latin typeface="Comix"/>
              </a:rPr>
              <a:t>quadrant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Comix"/>
              </a:rPr>
              <a:t>pirates of the caribbe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n spa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 want versions for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c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xbox one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inl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ingle-playe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u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th a multi-player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Tv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tv show ha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o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locations wit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o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weird local aliens in each 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n the first part of the class, you have to build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r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ssume that eddie has given you a health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quipme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budget we can gloss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quipment can b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old oFf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f things go badly wro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owever, he wants to keep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alari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thin 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e’ll allow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ot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age spend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£130,000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new core team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te: monetary values correct as of 2006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Cor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r core team must consist of at lea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erson i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ac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these catego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sig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’ll have to work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’ll have to work wit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’ll have to work wit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t ruffling their feathers too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v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read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been through a preliminary process to fi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uitabl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came from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ecruitmen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gency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you found through you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ersonal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applied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irectly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when they heard you were recru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now hav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hortlis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each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rom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se, build your core tea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design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sther lester    hiro tashiro    chad g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35,000         £40,000       £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12" name="Picture 8" descr="f25.png"/>
          <p:cNvPicPr/>
          <p:nvPr/>
        </p:nvPicPr>
        <p:blipFill>
          <a:blip r:embed="rId1"/>
          <a:stretch/>
        </p:blipFill>
        <p:spPr>
          <a:xfrm>
            <a:off x="971640" y="148428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f14.png"/>
          <p:cNvPicPr/>
          <p:nvPr/>
        </p:nvPicPr>
        <p:blipFill>
          <a:blip r:embed="rId2"/>
          <a:stretch/>
        </p:blipFill>
        <p:spPr>
          <a:xfrm>
            <a:off x="3419640" y="148428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f24.png"/>
          <p:cNvPicPr/>
          <p:nvPr/>
        </p:nvPicPr>
        <p:blipFill>
          <a:blip r:embed="rId3"/>
          <a:stretch/>
        </p:blipFill>
        <p:spPr>
          <a:xfrm>
            <a:off x="5940360" y="148428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design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Jan baran    jason mason    eve ree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30,000      £35,000        £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19" name="Picture 8" descr="f09.png"/>
          <p:cNvPicPr/>
          <p:nvPr/>
        </p:nvPicPr>
        <p:blipFill>
          <a:blip r:embed="rId1"/>
          <a:stretch/>
        </p:blipFill>
        <p:spPr>
          <a:xfrm>
            <a:off x="1116000" y="1484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f74.png"/>
          <p:cNvPicPr/>
          <p:nvPr/>
        </p:nvPicPr>
        <p:blipFill>
          <a:blip r:embed="rId2"/>
          <a:stretch/>
        </p:blipFill>
        <p:spPr>
          <a:xfrm>
            <a:off x="3635280" y="1484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69.png"/>
          <p:cNvPicPr/>
          <p:nvPr/>
        </p:nvPicPr>
        <p:blipFill>
          <a:blip r:embed="rId3"/>
          <a:stretch/>
        </p:blipFill>
        <p:spPr>
          <a:xfrm>
            <a:off x="6012000" y="1484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09480" y="533520"/>
            <a:ext cx="2210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programm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Maurice norris   eric merrick  norman for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65,000        £55,000        £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26" name="Picture 8" descr="f11.png"/>
          <p:cNvPicPr/>
          <p:nvPr/>
        </p:nvPicPr>
        <p:blipFill>
          <a:blip r:embed="rId1"/>
          <a:stretch/>
        </p:blipFill>
        <p:spPr>
          <a:xfrm>
            <a:off x="1042920" y="1557360"/>
            <a:ext cx="21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51.png"/>
          <p:cNvPicPr/>
          <p:nvPr/>
        </p:nvPicPr>
        <p:blipFill>
          <a:blip r:embed="rId2"/>
          <a:stretch/>
        </p:blipFill>
        <p:spPr>
          <a:xfrm>
            <a:off x="3635280" y="1557360"/>
            <a:ext cx="21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f64.png"/>
          <p:cNvPicPr/>
          <p:nvPr/>
        </p:nvPicPr>
        <p:blipFill>
          <a:blip r:embed="rId3"/>
          <a:stretch/>
        </p:blipFill>
        <p:spPr>
          <a:xfrm>
            <a:off x="6084720" y="1557360"/>
            <a:ext cx="2159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609480" y="533520"/>
            <a:ext cx="2210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programm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Keith monteith sandra nandhra giles s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35,000       £50,000       £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29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33" name="Picture 8" descr="f45.png"/>
          <p:cNvPicPr/>
          <p:nvPr/>
        </p:nvPicPr>
        <p:blipFill>
          <a:blip r:embed="rId1"/>
          <a:stretch/>
        </p:blipFill>
        <p:spPr>
          <a:xfrm>
            <a:off x="1116000" y="1628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f38.png"/>
          <p:cNvPicPr/>
          <p:nvPr/>
        </p:nvPicPr>
        <p:blipFill>
          <a:blip r:embed="rId2"/>
          <a:stretch/>
        </p:blipFill>
        <p:spPr>
          <a:xfrm>
            <a:off x="3564000" y="162864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f80.png"/>
          <p:cNvPicPr/>
          <p:nvPr/>
        </p:nvPicPr>
        <p:blipFill>
          <a:blip r:embed="rId3"/>
          <a:stretch/>
        </p:blipFill>
        <p:spPr>
          <a:xfrm>
            <a:off x="6084720" y="1628640"/>
            <a:ext cx="215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09480" y="533520"/>
            <a:ext cx="2895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x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oday (continued next week) we’re playing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am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bou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mpan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hich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ha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be more fun than it sound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company is calle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ame gam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hy yes, i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 made-up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ose peopl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sitTing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 year may have an advantag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lthough from past experience, they probably didn’t play it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firs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i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artis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sue la rue   brian o’ryan  frank 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40,000        £35,000       £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40" name="Picture 8" descr="f20.png"/>
          <p:cNvPicPr/>
          <p:nvPr/>
        </p:nvPicPr>
        <p:blipFill>
          <a:blip r:embed="rId1"/>
          <a:stretch/>
        </p:blipFill>
        <p:spPr>
          <a:xfrm>
            <a:off x="1258920" y="1557360"/>
            <a:ext cx="2233440" cy="22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f08.png"/>
          <p:cNvPicPr/>
          <p:nvPr/>
        </p:nvPicPr>
        <p:blipFill>
          <a:blip r:embed="rId2"/>
          <a:stretch/>
        </p:blipFill>
        <p:spPr>
          <a:xfrm>
            <a:off x="363528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f49.png"/>
          <p:cNvPicPr/>
          <p:nvPr/>
        </p:nvPicPr>
        <p:blipFill>
          <a:blip r:embed="rId3"/>
          <a:stretch/>
        </p:blipFill>
        <p:spPr>
          <a:xfrm>
            <a:off x="6084720" y="1557360"/>
            <a:ext cx="22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artis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hloe hoey        vaughan ho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30,000             £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47" name="Picture 7" descr="f10.png"/>
          <p:cNvPicPr/>
          <p:nvPr/>
        </p:nvPicPr>
        <p:blipFill>
          <a:blip r:embed="rId1"/>
          <a:stretch/>
        </p:blipFill>
        <p:spPr>
          <a:xfrm>
            <a:off x="1042920" y="1628640"/>
            <a:ext cx="2233800" cy="22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15.png"/>
          <p:cNvPicPr/>
          <p:nvPr/>
        </p:nvPicPr>
        <p:blipFill>
          <a:blip r:embed="rId2"/>
          <a:stretch/>
        </p:blipFill>
        <p:spPr>
          <a:xfrm>
            <a:off x="4140360" y="1628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 artis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Deb webb            joy f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£35,000             £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153" name="Picture 7" descr="f16.png"/>
          <p:cNvPicPr/>
          <p:nvPr/>
        </p:nvPicPr>
        <p:blipFill>
          <a:blip r:embed="rId1"/>
          <a:stretch/>
        </p:blipFill>
        <p:spPr>
          <a:xfrm>
            <a:off x="826920" y="1557360"/>
            <a:ext cx="2305080" cy="230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f32.png"/>
          <p:cNvPicPr/>
          <p:nvPr/>
        </p:nvPicPr>
        <p:blipFill>
          <a:blip r:embed="rId2"/>
          <a:stretch/>
        </p:blipFill>
        <p:spPr>
          <a:xfrm>
            <a:off x="4211640" y="1628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I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hat I want 15-20 minutes from 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ame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f the people you have hired, written in on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ecord shee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Be ready in case I call on you for 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xplanati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h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 chos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ncluding why 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idn’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hoose others if that was a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Remember,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ot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alary mu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xcee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£130,000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k, off you g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t’s been 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xciting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wo months at Game Gam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Lauren Warren has been creating plenty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uzZ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n the media, and the investors a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anaging Direct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an Mallon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nd C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reg CleGg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ave together arranged goo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istributi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d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l tha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mai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for you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k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re-p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pre-production is almo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re on course to have a visualisation document,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sig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document, a technical design review, 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r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bible and even so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x"/>
              </a:rPr>
              <a:t>Quadrant Q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going to be a rollick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ole-playing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r production management assessment look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oli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but there are still so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cis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need to consider how man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embers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taFf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recruit for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more 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hav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, the more can b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on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but the more i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ve asked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ead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say how many people the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E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finish in how man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deadline 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18 months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have thre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th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decisions,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More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ill you hire 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sSista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rodu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’s not such a large project that 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Ee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ne, but it will increase your power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 also gives you someone to blam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ill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utsourc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qa to a specialist or set up a small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intern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qa gro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ill you handl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udio? ju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voic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ffec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? or will you outsource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o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star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ll contracted to particip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ddie Reddy has allocated you a salary and services budget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£8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sign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os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20,000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rograMm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os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30,000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rtist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os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25,000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,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dd £ left over from 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te that the lead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ifF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 their assessment of how many minions they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don’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hav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give them the number they ask for if you think they’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533520"/>
            <a:ext cx="2895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x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icti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that you’re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oduc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t a new development start-up, hired to make it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have to make a bunch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cis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justif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hat happen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ex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depends on wha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’ll be running it i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roup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2 or 3, or maybe how-many-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i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-on-a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 guess I should sort that ou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ow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ther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want an assistant producer, it will co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£30,000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that £8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Q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Outsourcin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ost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 plu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echnician cost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4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 plu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echnicians cost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5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Outsourcing all cost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4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und engineer, outsource music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4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und engineer, musician cost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£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i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hat i want vi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cord sheet 1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ow many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sign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re you hir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ow many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rograMm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re you hir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ow many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rtist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re you hir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re you hiring an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sSistan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produc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£30,000 if so, £0 if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hich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qa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solution are you adop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£50,000 or £40,000 or £55,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hich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udio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solution are you adop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£40,000 or £45,000 or £50,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ve ha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big problems with the project so far, but things c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w is the time to think abou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ven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ll be occurring in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maind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based on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you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get a chance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scap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se if you c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ntingency-pla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ne of your employees has a pet allergy, but suppose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ead artist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igh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ut down as a risk: “lead artist suffers allergic rea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n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ul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ccur in which a blind voice artist visited with thei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uide d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av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oresEe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 potential risk, assume you’d earlier have installed a speciali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ir fi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f not, no more work from them for a wee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vagu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get to think of up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iv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ossible risks to e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o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ccep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vagu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thing bad might happ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re might be an accid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o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ccep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udge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e didn’t employ enough artis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ccep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erson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X and y might fall ou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I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get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ew minutes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o write down up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ive risks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per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can’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five, pu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in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rough the other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 don’t want you writing them in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ate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f (ha ha, “if”) disaster befalls you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ff you g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record she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part 4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part 4 special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A year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re now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yea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to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efforts of Lauren Warren are produc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sul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and there’s real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xciteme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 th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x"/>
              </a:rPr>
              <a:t>Quadrant Q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the TV series, has become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ig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hi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amount Game Game Game paid for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icenc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now looks like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argai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t’s now time to tak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toc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how things a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og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hen you asked for the most recent set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ileston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so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sked for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ne-lin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rogress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ee part 4 comments hand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re are so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vents that have arisen that you’ll have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lso be so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ersonNe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sues, depending on your team make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think you have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is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at covers an event,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pPe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I’ll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ul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class progresses in a number (8)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ac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art, there are slides explaining what’s happened since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eviou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re presented with problems and asked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k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mayb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justif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r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’ll just pick on you and ask you to explai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ll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rit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se down on hand-o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’s iron-man mode, No save/reloa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General ev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riter’s strik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eans new </a:t>
            </a:r>
            <a:r>
              <a:rPr b="0" i="1" lang="en-GB" sz="3200" spc="-1" strike="noStrike">
                <a:solidFill>
                  <a:srgbClr val="000000"/>
                </a:solidFill>
                <a:latin typeface="Comix"/>
              </a:rPr>
              <a:t>quadrant q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v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crip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re not being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hear informally that the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r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being written, just they’re being hel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hen the strik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nd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there could be a ton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aterial appear a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ll b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n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and therefore expected to be in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am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by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hat are you going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bout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r op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Do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Nothing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! The strike will end either soon or never, which doesn’t affect you either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reorganise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the design pipeline so you’ll have capacity to implement the most significant new content as and when it app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Hire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more designers for the duration of the str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x"/>
              </a:rPr>
              <a:t>CFO Eddie Reddy </a:t>
            </a:r>
            <a:r>
              <a:rPr b="0" i="1" lang="en-GB" sz="2000" spc="-1" strike="noStrike">
                <a:solidFill>
                  <a:srgbClr val="000000"/>
                </a:solidFill>
                <a:latin typeface="Comix"/>
              </a:rPr>
              <a:t>will</a:t>
            </a:r>
            <a:r>
              <a:rPr b="0" lang="en-GB" sz="2000" spc="-1" strike="noStrike">
                <a:solidFill>
                  <a:srgbClr val="000000"/>
                </a:solidFill>
                <a:latin typeface="Comix"/>
              </a:rPr>
              <a:t> grudgingly fund this as it’s 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issue a press release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supPorting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the writers “even though this means GAME GAME GAME won’t have time to put in any late new cont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Issue a press release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condemning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the writers for “holding the fans and production company to ranso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General ev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Chief Technical Officer, Greg Clegg,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esign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e’s accepted a position at Sky Television inst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e declares that, much as he’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trie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make sense of them, computer games ar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eyon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h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e also says he doesn’t have much to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o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, a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nd Chief Operating Office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Michaela Taylo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seem to have it all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n emergency meeting of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oar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s convened with four (or perhaps five) options on th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hich do 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ecomMen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pt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ire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hief technical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Promot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Michaela Taylo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CTO, but don’t hire a replacement Chief operating offi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Promot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CTO, but don’t hire a replacement Produ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ve the position of CTO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va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omix"/>
              </a:rPr>
              <a:t>If you hired an assistant producer in Part 2</a:t>
            </a:r>
            <a:r>
              <a:rPr b="1" lang="en-GB" sz="2800" spc="-1" strike="noStrike">
                <a:solidFill>
                  <a:srgbClr val="000000"/>
                </a:solidFill>
                <a:latin typeface="Comix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promot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CTO and promote you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sSistan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producer to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fuLl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produ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Note: your assistant isn’t as good as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General event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arketing Director lauren warren has 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urge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need f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ine ar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use a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ublicit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jo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artists have noth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ui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r lead artist 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hl</a:t>
            </a:r>
            <a:r>
              <a:rPr b="0" lang="en-US" sz="3200" spc="-1" strike="noStrike">
                <a:solidFill>
                  <a:srgbClr val="000000"/>
                </a:solidFill>
                <a:latin typeface="ComixHeavy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 Hoe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you c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ignor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is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he spent half an hour with Lauren producing lightning-fast sketches that suited Lauren’s needs yet which won’t come back to haunt the team once the fans get to se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therwise,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pt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Lauren anything you give her now will be seized on by fans as definitive so she’ll have to make do with so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oncep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rt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Get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junio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rtist to produce something to fob her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sk your lead designer and lead artist to come up with so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uitabl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pieces that will reflect what will be in the g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lauren it’s between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he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nd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rt lea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, you’re not getting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ther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84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re a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pecial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vents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designer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hiro tash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designer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had g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programmer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orman for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programmer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giles s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ue la 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frank pl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b webB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nd Your lead programmer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keith monte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I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need to giv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the multi-choice answers f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ac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the gener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riter’s str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Greg clegg’s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auren warren’s line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s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need to respond with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yes or n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an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vents that affect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Remember you can avoi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n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these if you saw it coming (a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a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avoid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record shee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part 5 special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Home stra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project is progress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eL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with onl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our months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o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developm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log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xciting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a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re having their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y seem to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ik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he tone, Lauren warren’s having hit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wEet spot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n their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there are so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ven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at have arisen that need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ssume they happe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hronologicalL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 the orde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Unless every group always makes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decisions,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houl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ind that at times you are solving problems that other group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’ll be living wit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th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consequences of their cho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xpect a simple 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re ar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right decisions, jus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etTe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lthough so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lear-cu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General event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s a result of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v writers’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trike,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signer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learn how much tv writers a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’s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ot more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an designers are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 ask for a modes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y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have an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unspe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oney from part 1 or part 2,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ul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give them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xception: if your lea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ogrammer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ric merric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n you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Because his programmers will want on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hief finance office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dDie RedDy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ells you there’s n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xtra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oney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n’t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on’t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fund a pay rise, you c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the designers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ad new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ave you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ead designer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xpla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ay you’d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ov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give a pay rise, but bla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eDdie reDdy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for saying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ack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ne of the junior designers and give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es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 pay 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General event #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FO Eddie Reddy has been doing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um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and says he wants you to ad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y-to-wi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lements to th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ockbox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ere part of the original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usines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requirements, so are already in - but only f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smetic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Do you g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L i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th p2w elements? Add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few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at don’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Oo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very p2w? Tell eddie 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have it at this late stage?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mov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lockboxes entire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General event #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re to be given a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war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t an importa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nferenc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t’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restigiou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will br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ub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nd also help your personal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owever, It’ll mean you’r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wa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a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ill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ick up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 award in person,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ccep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t but not collect it, or politel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ur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ow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Special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re are special events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Design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Esther L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Design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Eve Re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Design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Jason Mason 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AND you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outsourced Q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Design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Jan Baran 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AND you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promoted 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assistant to full pro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Vaughan Ho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Programm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Norman Fore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Programm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Keith Monteith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 AND you got Hiro Tashiro’s old university friend to conduct a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security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Programmer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Giles Stiles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 AND you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didn’t interfere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 in his romance with Michaela Taylor AND she wa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promoted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 to 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Frank Pl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Brian O’Ry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Chl</a:t>
            </a:r>
            <a:r>
              <a:rPr b="0" lang="en-US" sz="1600" spc="-1" strike="noStrike">
                <a:solidFill>
                  <a:srgbClr val="000000"/>
                </a:solidFill>
                <a:latin typeface="ComixHeavy"/>
              </a:rPr>
              <a:t>ö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e Ho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r Lead Artist is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Joy F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you </a:t>
            </a:r>
            <a:r>
              <a:rPr b="0" lang="en-GB" sz="1600" spc="-1" strike="noStrike">
                <a:solidFill>
                  <a:srgbClr val="000000"/>
                </a:solidFill>
                <a:latin typeface="ComixHeavy"/>
              </a:rPr>
              <a:t>outsourced</a:t>
            </a:r>
            <a:r>
              <a:rPr b="0" lang="en-GB" sz="1600" spc="-1" strike="noStrike">
                <a:solidFill>
                  <a:srgbClr val="000000"/>
                </a:solidFill>
                <a:latin typeface="Comix"/>
              </a:rPr>
              <a:t> mus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time lef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calculation SHE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h d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deadline 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pProaching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hen something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unexpect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happ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x"/>
              </a:rPr>
              <a:t>Quadrant Q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has become s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opula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 japan that Japanese publisher gemu gemu gemu makes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i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game game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ompany owne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an MalL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considers it to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Oo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 offer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f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eLls up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and Game game game becomes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ivisi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gemu gemu gem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l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eet your new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hief executive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hief finance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idaka tanaka     Satsuki Suzu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    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D                C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285" name="Picture 8" descr="f62.png"/>
          <p:cNvPicPr/>
          <p:nvPr/>
        </p:nvPicPr>
        <p:blipFill>
          <a:blip r:embed="rId1"/>
          <a:stretch/>
        </p:blipFill>
        <p:spPr>
          <a:xfrm>
            <a:off x="1908000" y="270828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f77.png"/>
          <p:cNvPicPr/>
          <p:nvPr/>
        </p:nvPicPr>
        <p:blipFill>
          <a:blip r:embed="rId2"/>
          <a:stretch/>
        </p:blipFill>
        <p:spPr>
          <a:xfrm>
            <a:off x="5076720" y="2708280"/>
            <a:ext cx="2303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mu gemu gemu sends in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eam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o find out wha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xactl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has bee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l staff members have to write a length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por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detailing thei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n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s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have to sit a bunch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healt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sychometric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design of </a:t>
            </a:r>
            <a:r>
              <a:rPr b="0" i="1" lang="en-GB" sz="3200" spc="-1" strike="noStrike">
                <a:solidFill>
                  <a:srgbClr val="000000"/>
                </a:solidFill>
                <a:latin typeface="Comix"/>
              </a:rPr>
              <a:t>quadrant q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ssess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a list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hang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roduced for the japanes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inten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l this is done wit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oo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nt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l is i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in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t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oder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anagemen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nly when the results co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it apparent that game game game has been inadvertentl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raly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For several weeks, at a ti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ritical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for the game’s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Despite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es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fforts, there’s going to have to be a period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r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candidate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record she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First, you need to calculate how muc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im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r project will take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is depends on how many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eopl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you h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ork it out for design, code and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onges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ne determines how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oO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you can la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aving figured out how muc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or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left, compare it with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im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is i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4 weEk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fo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every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te that even if “company is taken over by japanese competitor” was one of your state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isk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on this occasion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gno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lthough I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might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llow something that state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managemen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nterferes in design (see next sl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ther risk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a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itigate the effects of the event, bu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s stated (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arlie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cis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can affect things,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contin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f you have a risk that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articula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eam might have troubl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mEetin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he deadline fo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whateve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(non-budget) reason,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duc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week from its total tim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F YOU HAVE AN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UNUSED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RISK THAT COMPANY MANAGEMENT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MIGH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INTERFERE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N DESIGN, DEDUC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1 WEEK 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FROM YOUR DESIGN TEAM’S TOTAL TIM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f you had any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unspen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budget in part 1 or part 2 AND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IDN’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GIVE DESIGNERS A PAY RISE,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duc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week from you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rograMmin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eam’s tim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YOU USE THE EXTRA MONEY TO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INCENTIVISE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in part 2 YOU DECIDED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UTSOURC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QA,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DUC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R REMAINING PROGRAMMING TIME B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1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HAV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WO LEADS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FOR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R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ection, TAKE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OWER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F THE TWO ESTIMATES AND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DUCE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R TOTAL art TIME LEFT By a furthe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for other sections, two leads have lower workload cancelled out by artistic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NTER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L THIS IN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lculation SHEE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I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SO, Look up how many weeks (if any)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ac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y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eam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needs to complete FROM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IME LEFT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Based on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lea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you chose and the number of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eopl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you gav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ake adjustments f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isk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the other factors no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ubtract 4 wEeks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from each total to calculate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veRru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for each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We’ll deal with it in part 7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part 7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record shee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one or more of your teams is going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veRru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you have to decide what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is can be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mpany-wid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x"/>
              </a:rPr>
              <a:t>E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. try to negotiate an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t can be at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eam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x"/>
              </a:rPr>
              <a:t>E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. recruit mor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r It can be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ix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f several of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’ll give you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handou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th the full list of option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may depend on your earlier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I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Looking at the list of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ct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 can take, select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mbinati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at will reduc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ach team’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verrun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mportant!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ll the actions are necessarily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me could make matter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wors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ompany-wid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ctions affec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r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eam-specific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ctions affect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rticula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eam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Hard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f you take an action that helps a team finish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earl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can’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hen use that early finish to help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th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x"/>
              </a:rPr>
              <a:t>E.g.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rack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whip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on designers so they finish early, then get them to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edesig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o save a week for th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xHeavy"/>
              </a:rPr>
              <a:t>Part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Hand out calculation she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, You’re the new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ead produc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latest hire a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game game game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 new company based in near-where-you-live,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ame game game has solid financial backing and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oleran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anagement, bu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xperience in gam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y’re going to have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rust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k, so it’s time to turn to your hand-ou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Finally, the (possibly new) deadlin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asS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and the product is (we hope)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launch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w it’s time to see how well i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decisions can hav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results if lady luck acts caprici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a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decisions can hav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results di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igh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ale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doesn’t mean high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quality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Miserable sale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oe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mean miserable qual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iv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your sheets t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noth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team to 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, I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on’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rust you – you’re game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’ll give out a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al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calculation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We’ll go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throug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t together, with you marking another team’s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te that some decisions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gonis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ver may hav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no efFect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on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Others that 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rushe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hrough may b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importan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aper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You’ll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need to check the fou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cor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lthough 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check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alculation sheet 1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nd anything else for evidence of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cheatin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f you lik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’ll tell you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whic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record sheet to look at for the appropriat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Point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will b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dD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(or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remove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) based on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decision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points,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Designer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sther Lester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lthough female players love Esther’s design, the audience for </a:t>
            </a:r>
            <a:r>
              <a:rPr b="0" i="1" lang="en-GB" sz="2800" spc="-1" strike="noStrike">
                <a:solidFill>
                  <a:srgbClr val="000000"/>
                </a:solidFill>
                <a:latin typeface="Comix"/>
              </a:rPr>
              <a:t>Quadrant Q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s mainly male and was creeped out by some of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Hiro Tashir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iro manages to design a wry game that appeals both to Western and Japanese audiences, although with a few com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had Gad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Chad lived up to his reputation and is going to win an award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Designer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Jan Bara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Jan’s design had good gameplay, but its atmosphere wasn’t in tune with that of the TV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Jason Maso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Jason put in a solid effort, with some flashes of in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ve Reev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ve asserted her authority early on, and gave the project a clear vision; The gameplay was a bit uninspired,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rogrammer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aurice Norri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Maurice delivered a classy, bug-fre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ric Merric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ric’s team didn’t really gel except when complaining about their jobs, and as a result the code has a large number of minor irr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Norman Forema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rman did well, but the program takes a long time to start up. He’s learned a lot, though, and will do better nex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Programmer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Keith Monteith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Keith was the wrong man for the position: If you don’t sack him, he’ll resign and move back to a programming role. He needs to learn more to be a le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Sandra Nandhra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Sandra did a professional job, but her heart wasn’t really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iles Stile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Giles produced quality code, but was reluctant to step in and correct other programmers’ code if they screwed up, so the end result is a hack in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Artist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Sue La Ru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ue’s rich, imaginative environment art wins the plaudits even of non-ga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Brian O’Ryan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Brian created an action-oriented style that appealed to younger male players, but lost some older potential players who thought it a bit over the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Artist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Frank Plank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Frank’s art style was very atmospheric, but it wasn’t in keeping with the TV program’s style and the fans got disgrunt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f his lost day was let pass without comment, he gets 7 instead – his fellow artists follow his lead but aren’t quite as responsible as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hl</a:t>
            </a:r>
            <a:r>
              <a:rPr b="0" lang="en-US" sz="3200" spc="-1" strike="noStrike">
                <a:solidFill>
                  <a:srgbClr val="000000"/>
                </a:solidFill>
                <a:latin typeface="Comix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 Hoe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Chl</a:t>
            </a:r>
            <a:r>
              <a:rPr b="0" lang="en-US" sz="2800" spc="-1" strike="noStrike">
                <a:solidFill>
                  <a:srgbClr val="000000"/>
                </a:solidFill>
                <a:latin typeface="Comix"/>
              </a:rPr>
              <a:t>ö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 produced a delightful look, and really grew into the role of lead art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Artist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Vaughan Horne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Vaughan’s stunning animation raised the quality bar another notch and had people queuing round the block at midnight to buy the game on releas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Deb Webb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Deb nailed the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26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This is how game game game is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organ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I’ll go through th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individuals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now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29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0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Artist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Joy Fo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Joy’s artwork was great, but she gave her team too free a rein and some of their offerings were so-so. She’ll improve with experience,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Deb Webb &amp; Joy Fo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Because of their mutual respect, Joy’s flair and range plus Deb’s vision and managerial skills, combined to make a stunning piece of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Artists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Chl</a:t>
            </a:r>
            <a:r>
              <a:rPr b="0" lang="en-US" sz="3200" spc="-1" strike="noStrike">
                <a:solidFill>
                  <a:srgbClr val="000000"/>
                </a:solidFill>
                <a:latin typeface="Comix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e Hoey &amp; Joy Foy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Chl</a:t>
            </a:r>
            <a:r>
              <a:rPr b="0" lang="en-US" sz="2800" spc="-1" strike="noStrike">
                <a:solidFill>
                  <a:srgbClr val="000000"/>
                </a:solidFill>
                <a:latin typeface="Comix"/>
              </a:rPr>
              <a:t>ö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 and Joy got on well together and their skills were complementary; The result was something rather 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s 1 Par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qa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ption (one of the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Outsource all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+technici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ad+2xtechnici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Audio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option (one of the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Outsource all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und engineer, outsource music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ound engineer+musici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neral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– writer’s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Hire more design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They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cost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more but the game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sold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more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Do nothing except support writ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Do nothing except condemn writer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neral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– greg clegg r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Promote yourself to cto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Heav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great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career move, </a:t>
            </a:r>
            <a:r>
              <a:rPr b="0" lang="en-GB" sz="2400" spc="-1" strike="noStrike">
                <a:solidFill>
                  <a:srgbClr val="000000"/>
                </a:solidFill>
                <a:latin typeface="ComixHeavy"/>
              </a:rPr>
              <a:t>AWFUL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 for th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neral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– lauren’s ar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Junior artis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00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t hiro’s friend give a free security analys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t chad give his keynot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666720" y="550800"/>
            <a:ext cx="792468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neral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– designer pay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Give them the pay ris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them no pay rise yourself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your lead designer to tell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Chad gadd, jan baran, eve reeve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Esther lester, hiro tashiro, jason mason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Blame eddie reddy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ack a junior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People were afraid you might sack them next, so worked harder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neral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– add pay-to-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ots of p2w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Players rebelled and boycotted th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Discreet p2w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 p2w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 lockboxes at all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x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x"/>
              </a:rPr>
              <a:t>The players love it but you lost a ton of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General even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– your a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Pick it up in perso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Accept it but don’t show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Rs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Examine Esther’s method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Give the artist his own office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t Jason talk to QA directly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ide with J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Side with Norman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Frank to lighten the look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Let Brian jump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ell them to redo the poor work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Record sheet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is pretty self-explanatory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3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Let’s see how well the game </a:t>
            </a:r>
            <a:r>
              <a:rPr b="0" lang="en-GB" sz="3200" spc="-1" strike="noStrike">
                <a:solidFill>
                  <a:srgbClr val="000000"/>
                </a:solidFill>
                <a:latin typeface="ComixHeavy"/>
              </a:rPr>
              <a:t>sold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Note: it’s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zero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if they didn’t la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dd up all the “actual points”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&lt;= 0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you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ankrupted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gemu gemu g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-10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game is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flop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and you’r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f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11-20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the gam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reaks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21-30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’s a modes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ucCeS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31-40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’s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big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success! Expect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sequ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41-50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’s a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hit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Award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beck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51+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it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define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 the era! You’re </a:t>
            </a:r>
            <a:r>
              <a:rPr b="0" lang="en-GB" sz="2800" spc="-1" strike="noStrike">
                <a:solidFill>
                  <a:srgbClr val="000000"/>
                </a:solidFill>
                <a:latin typeface="ComixHeavy"/>
              </a:rPr>
              <a:t>famous</a:t>
            </a:r>
            <a:r>
              <a:rPr b="0" lang="en-GB" sz="2800" spc="-1" strike="noStrike">
                <a:solidFill>
                  <a:srgbClr val="000000"/>
                </a:solidFill>
                <a:latin typeface="Comix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09480" y="533520"/>
            <a:ext cx="1828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x"/>
              </a:rPr>
              <a:t>Top bras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Alan mallon    eddie reddy    greg cle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x"/>
              </a:rPr>
              <a:t>MD             CFO           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09480" y="533520"/>
            <a:ext cx="792504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x"/>
            </a:endParaRPr>
          </a:p>
        </p:txBody>
      </p:sp>
      <p:pic>
        <p:nvPicPr>
          <p:cNvPr id="75" name="Picture 8" descr="f03.png"/>
          <p:cNvPicPr/>
          <p:nvPr/>
        </p:nvPicPr>
        <p:blipFill>
          <a:blip r:embed="rId1"/>
          <a:stretch/>
        </p:blipFill>
        <p:spPr>
          <a:xfrm>
            <a:off x="1116000" y="1557360"/>
            <a:ext cx="21607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f05.png"/>
          <p:cNvPicPr/>
          <p:nvPr/>
        </p:nvPicPr>
        <p:blipFill>
          <a:blip r:embed="rId2"/>
          <a:stretch/>
        </p:blipFill>
        <p:spPr>
          <a:xfrm>
            <a:off x="3564000" y="155736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f22.png"/>
          <p:cNvPicPr/>
          <p:nvPr/>
        </p:nvPicPr>
        <p:blipFill>
          <a:blip r:embed="rId3"/>
          <a:stretch/>
        </p:blipFill>
        <p:spPr>
          <a:xfrm>
            <a:off x="5867280" y="1557360"/>
            <a:ext cx="2160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8:50:51Z</dcterms:created>
  <dc:creator>Richard A. Bartle</dc:creator>
  <dc:description/>
  <dc:language>en-US</dc:language>
  <cp:lastModifiedBy>Bartle, Richard</cp:lastModifiedBy>
  <dcterms:modified xsi:type="dcterms:W3CDTF">2020-10-07T16:29:09Z</dcterms:modified>
  <cp:revision>266</cp:revision>
  <dc:subject/>
  <dc:title>Writing Games For the WWW and Mobile Phones</dc:title>
</cp:coreProperties>
</file>